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8.jpeg" ContentType="image/jpeg"/>
  <Override PartName="/ppt/media/image23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96F9-33C2-4D5A-B88D-5A93BDED6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7132-2765-4188-ADA6-1E192A847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+ 6x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+ 6x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8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6 ± √36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–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4(1)(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6 ± √36 +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6 ± √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6 ± 2√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3 ± √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523E-BBB3-4D77-8830-3C763E3C0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tch by a, left b and up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516-3E68-4689-80FA-11A70BB2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77A-FFA1-4E59-9131-26156F72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34B-7BDB-4029-A5A8-D11AC0A3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7FE6-5FA6-4233-9083-15951515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416D-DA68-4124-B665-765D4924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BF53-9209-4F67-8C3B-7EA99ED4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FD54-F125-49FB-A84E-3761DA3C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4DB7-E562-45D7-885D-976716AA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E4FD-426D-4D87-B6E7-A9ECCACB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5F5C-FE68-4A98-BE28-2469B6F6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613B-D6D4-466C-9014-C2230428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669-599E-49FC-91E5-C2D1FA87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926E-1DFA-4771-BD34-434EEF10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9901-7492-42BD-873C-C1EBFEA3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7776-C7BA-4006-9F4F-5878A741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8661-992E-4564-ACAC-B8C105A1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7ABA-D2A0-483F-BB4D-24775F33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88B-E2B7-4A7F-ACDE-00C0DDAF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7FC-CED2-4918-BA81-C83A2671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375-9FBB-47F2-B033-AE0BD029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DBF-130F-453E-85BC-A4253477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621-FA94-41FF-9A16-4426242E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008-2F52-45DE-B805-57B2D5DE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82C-5FF9-44DC-A5ED-6FDF69B3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C361-2718-409C-B7A5-D5AFC50917D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3DDF-BC40-4319-82B2-645483C5A18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3.1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uadratic Functions an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Quadratic Regression on the Calculato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Enter data into List 1 and List 2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hoose St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a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5: quadr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To have the data go directly into y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Before you press the second en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hoose v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-v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87 #98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Make a scatterplot of the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Find the values for a, h and k.  Graph f(x) together with the data in the same viewing rectang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 Approximate the undetermined value(s) in the table.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population in mill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5029200"/>
          <a:ext cx="6112080" cy="1463760"/>
        </p:xfrm>
        <a:graphic>
          <a:graphicData uri="http://schemas.openxmlformats.org/drawingml/2006/table">
            <a:tbl>
              <a:tblPr/>
              <a:tblGrid>
                <a:gridCol w="1371600"/>
                <a:gridCol w="754200"/>
                <a:gridCol w="754200"/>
                <a:gridCol w="755640"/>
                <a:gridCol w="753840"/>
                <a:gridCol w="754200"/>
                <a:gridCol w="968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blem Solv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86 #8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ch the physical situation with the graph of the quadratic function that models it b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87 #1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ables that support a suspension bridge, such as the Golden Gate Bridge, can be modeled by parabolas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that a 300-foot long suspension bridge has towers at its ends that are 120 feet tall, as illustrated in the accompanying fig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able comes within 20 feet of the road in the center of the bridge, find the quadratic function that models the height of the cable above the road a distance of x feet from the center of the bridg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0"/>
          <p:cNvGrpSpPr/>
          <p:nvPr/>
        </p:nvGrpSpPr>
        <p:grpSpPr>
          <a:xfrm>
            <a:off x="5029200" y="0"/>
            <a:ext cx="3670200" cy="2432160"/>
            <a:chOff x="5029200" y="0"/>
            <a:chExt cx="3670200" cy="2432160"/>
          </a:xfrm>
        </p:grpSpPr>
        <p:pic>
          <p:nvPicPr>
            <p:cNvPr id="123" name="Picture 10" descr="http://sponsorshipsleuth.com/wp-content/uploads/2007/10/golden-gate-bridge-sponsorship.jpg"/>
            <p:cNvPicPr/>
            <p:nvPr/>
          </p:nvPicPr>
          <p:blipFill>
            <a:blip r:embed="rId1"/>
            <a:stretch/>
          </p:blipFill>
          <p:spPr>
            <a:xfrm>
              <a:off x="5029200" y="0"/>
              <a:ext cx="3670200" cy="24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Straight Connector 12"/>
            <p:cNvSpPr/>
            <p:nvPr/>
          </p:nvSpPr>
          <p:spPr>
            <a:xfrm flipH="1">
              <a:off x="6402600" y="235080"/>
              <a:ext cx="1440" cy="1362960"/>
            </a:xfrm>
            <a:prstGeom prst="line">
              <a:avLst/>
            </a:prstGeom>
            <a:ln w="63360">
              <a:solidFill>
                <a:srgbClr val="ffd1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8"/>
            <p:cNvSpPr/>
            <p:nvPr/>
          </p:nvSpPr>
          <p:spPr>
            <a:xfrm>
              <a:off x="5566680" y="460800"/>
              <a:ext cx="83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0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9"/>
            <p:cNvSpPr/>
            <p:nvPr/>
          </p:nvSpPr>
          <p:spPr>
            <a:xfrm flipH="1" flipV="1">
              <a:off x="6402600" y="1294560"/>
              <a:ext cx="1823040" cy="227160"/>
            </a:xfrm>
            <a:prstGeom prst="line">
              <a:avLst/>
            </a:prstGeom>
            <a:ln w="63360">
              <a:solidFill>
                <a:srgbClr val="ffd1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15"/>
            <p:cNvSpPr/>
            <p:nvPr/>
          </p:nvSpPr>
          <p:spPr>
            <a:xfrm>
              <a:off x="7010280" y="1370880"/>
              <a:ext cx="83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0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16"/>
            <p:cNvSpPr/>
            <p:nvPr/>
          </p:nvSpPr>
          <p:spPr>
            <a:xfrm flipH="1">
              <a:off x="7616160" y="1220760"/>
              <a:ext cx="1440" cy="225720"/>
            </a:xfrm>
            <a:prstGeom prst="line">
              <a:avLst/>
            </a:prstGeom>
            <a:ln w="63360">
              <a:solidFill>
                <a:srgbClr val="ffd1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9"/>
            <p:cNvSpPr/>
            <p:nvPr/>
          </p:nvSpPr>
          <p:spPr>
            <a:xfrm>
              <a:off x="7617960" y="1154880"/>
              <a:ext cx="83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3.2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ratic Equations and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2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609480" y="2489040"/>
          <a:ext cx="329436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89040"/>
                    <a:ext cx="32943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5"/>
          <p:cNvGraphicFramePr/>
          <p:nvPr/>
        </p:nvGraphicFramePr>
        <p:xfrm>
          <a:off x="609480" y="4267080"/>
          <a:ext cx="279396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267080"/>
                    <a:ext cx="279396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Quadratic formu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The solutions to the quadratic equ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a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+ bx + c = 0, where a ≠ 0, are given 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x =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0766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5"/>
          <p:cNvGraphicFramePr/>
          <p:nvPr/>
        </p:nvGraphicFramePr>
        <p:xfrm>
          <a:off x="2286000" y="2895480"/>
          <a:ext cx="316224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95480"/>
                    <a:ext cx="31622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10"/>
          <p:cNvSpPr/>
          <p:nvPr/>
        </p:nvSpPr>
        <p:spPr>
          <a:xfrm>
            <a:off x="457200" y="144792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533520" y="2133720"/>
          <a:ext cx="273024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27302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5"/>
          <p:cNvGraphicFramePr/>
          <p:nvPr/>
        </p:nvGraphicFramePr>
        <p:xfrm>
          <a:off x="685800" y="4267080"/>
          <a:ext cx="247644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24764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Discrimina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scriminant is used to determine the number of real solutions t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a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+ bx + c =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If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4ac &gt; 0, there are two real solu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If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4ac = 0, there is one real so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If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4ac &lt; 0, there are no real solu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20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 Write the equation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Calculate the discriminant and determine the number of real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 Solve the equ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4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5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6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762120" y="2565360"/>
          <a:ext cx="209556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65360"/>
                    <a:ext cx="20955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5"/>
          <p:cNvGraphicFramePr/>
          <p:nvPr/>
        </p:nvGraphicFramePr>
        <p:xfrm>
          <a:off x="685800" y="4038480"/>
          <a:ext cx="2030400" cy="5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38480"/>
                    <a:ext cx="20304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6"/>
          <p:cNvGraphicFramePr/>
          <p:nvPr/>
        </p:nvGraphicFramePr>
        <p:xfrm>
          <a:off x="673200" y="5486400"/>
          <a:ext cx="2222280" cy="57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00" y="5486400"/>
                    <a:ext cx="22222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adratic Func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A quadratic function is of the for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f(x) = a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+ bx + c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where a, b, and c are real numbers, a ≠ 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ph of a quadratic function is a parabo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domain of a quadratic function is all real numb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se functions have a linear rate of chan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lve graphicall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02 #4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609480" y="2209680"/>
          <a:ext cx="307368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30736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blem Solv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03 #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1984 to 1994 the cumulative number of AIDS cases can be modeled by the eq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x represents years after 1984.  Estimate the year when 200,000 AIDS cases had been diagnos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2122560" y="3048120"/>
          <a:ext cx="443052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2560" y="3048120"/>
                    <a:ext cx="44305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04 #1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ectangular pen for a pet is under construction using 100 feet of f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 Determine the dimension that result in an area of 576 square fee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 Find the dimensions that give the maximum a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3.3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ratic Inequ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lving Quadratic Inequa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in Standard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 boundary numbers to test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 table or graph to write your 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213 Solve each equation and inequality.  Write the solution set for each inequality in interval no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1523880" y="2870280"/>
          <a:ext cx="193068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870280"/>
                    <a:ext cx="1930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5"/>
          <p:cNvGraphicFramePr/>
          <p:nvPr/>
        </p:nvGraphicFramePr>
        <p:xfrm>
          <a:off x="1523880" y="3251160"/>
          <a:ext cx="19306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251160"/>
                    <a:ext cx="1930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6"/>
          <p:cNvGraphicFramePr/>
          <p:nvPr/>
        </p:nvGraphicFramePr>
        <p:xfrm>
          <a:off x="1523880" y="3708360"/>
          <a:ext cx="193068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3708360"/>
                    <a:ext cx="1930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7"/>
          <p:cNvGraphicFramePr/>
          <p:nvPr/>
        </p:nvGraphicFramePr>
        <p:xfrm>
          <a:off x="1523880" y="4495680"/>
          <a:ext cx="137160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4495680"/>
                    <a:ext cx="13716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8"/>
          <p:cNvGraphicFramePr/>
          <p:nvPr/>
        </p:nvGraphicFramePr>
        <p:xfrm>
          <a:off x="1486080" y="4876920"/>
          <a:ext cx="1485720" cy="439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86080" y="4876920"/>
                    <a:ext cx="148572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9"/>
          <p:cNvGraphicFramePr/>
          <p:nvPr/>
        </p:nvGraphicFramePr>
        <p:xfrm>
          <a:off x="1447920" y="5334120"/>
          <a:ext cx="1371600" cy="40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7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47920" y="5334120"/>
                    <a:ext cx="13716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1092240" y="1981080"/>
          <a:ext cx="15746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981080"/>
                    <a:ext cx="1574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5"/>
          <p:cNvGraphicFramePr/>
          <p:nvPr/>
        </p:nvGraphicFramePr>
        <p:xfrm>
          <a:off x="1092240" y="2336760"/>
          <a:ext cx="15746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2240" y="2336760"/>
                    <a:ext cx="1574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6"/>
          <p:cNvGraphicFramePr/>
          <p:nvPr/>
        </p:nvGraphicFramePr>
        <p:xfrm>
          <a:off x="1066680" y="2743200"/>
          <a:ext cx="157500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2743200"/>
                    <a:ext cx="15750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7"/>
          <p:cNvGraphicFramePr/>
          <p:nvPr/>
        </p:nvGraphicFramePr>
        <p:xfrm>
          <a:off x="1143000" y="3505320"/>
          <a:ext cx="177804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3505320"/>
                    <a:ext cx="1778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8"/>
          <p:cNvGraphicFramePr/>
          <p:nvPr/>
        </p:nvGraphicFramePr>
        <p:xfrm>
          <a:off x="1143000" y="3860640"/>
          <a:ext cx="1778040" cy="40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3860640"/>
                    <a:ext cx="1778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9"/>
          <p:cNvGraphicFramePr/>
          <p:nvPr/>
        </p:nvGraphicFramePr>
        <p:xfrm>
          <a:off x="1193760" y="4241880"/>
          <a:ext cx="1778040" cy="40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93760" y="4241880"/>
                    <a:ext cx="1778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10"/>
          <p:cNvGraphicFramePr/>
          <p:nvPr/>
        </p:nvGraphicFramePr>
        <p:xfrm>
          <a:off x="1143000" y="5029200"/>
          <a:ext cx="1981080" cy="406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5029200"/>
                    <a:ext cx="1981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11"/>
          <p:cNvGraphicFramePr/>
          <p:nvPr/>
        </p:nvGraphicFramePr>
        <p:xfrm>
          <a:off x="1143000" y="5410080"/>
          <a:ext cx="1981080" cy="4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5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5410080"/>
                    <a:ext cx="1981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2"/>
          <p:cNvGraphicFramePr/>
          <p:nvPr/>
        </p:nvGraphicFramePr>
        <p:xfrm>
          <a:off x="1143000" y="5791320"/>
          <a:ext cx="1981080" cy="406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7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5791320"/>
                    <a:ext cx="1981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3.4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s of 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hifting and Stretc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p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1 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2 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3 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pattern do you s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rtical Shif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tical Shift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(x) = f(x) + a, shift graph up a uni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(x) = f(x) – a, shift graph down a un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ximum or minimum point of a parab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xis of symme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ertical line passing through the vert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ing coef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quadratic function is this “a” (the coefficient of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positive the graph opens u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negative the graph opens dow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r values of |a| result in a narrower parabola, smaller values of |a| result in a wider parabo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1 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2 = (x + 3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3 = (x – 3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pattern do you s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rizontal Shif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rizontal Shif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(x) = f(x + a), shift graph left a un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(x) = f(x – a), shift graph right a un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1 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2 = 3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3 = 6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etc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tical and Horizontal stretches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 &gt;0, the graph g(x) = af(x) stretches the graph vertically by a factor of 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 &gt;1, the graph g(x) = f(ax) compresses the graph horizontally by a factor of 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(x) = f(x/a) compresses the graph horizontally by a factor of 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1 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2 = -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gative Coeffici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multiply by a negative it reflects (flips) the graph over the x-axi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dict what will ha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 = -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 = -2(x + 5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f(x + b) +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29  Use the accompanying graph of   y = f(x) to sketch a graph of each equa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1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 y = f(x + 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 y = -f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  Y = 2f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 y = f(x – 1) -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 y = -f(x) +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  y = f(1/2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505320" y="4724280"/>
            <a:ext cx="1828800" cy="121932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8"/>
          <p:cNvGrpSpPr/>
          <p:nvPr/>
        </p:nvGrpSpPr>
        <p:grpSpPr>
          <a:xfrm>
            <a:off x="3124080" y="2971800"/>
            <a:ext cx="1886040" cy="1276200"/>
            <a:chOff x="3124080" y="2971800"/>
            <a:chExt cx="1886040" cy="1276200"/>
          </a:xfrm>
        </p:grpSpPr>
        <p:pic>
          <p:nvPicPr>
            <p:cNvPr id="232" name="Picture 6" descr=""/>
            <p:cNvPicPr/>
            <p:nvPr/>
          </p:nvPicPr>
          <p:blipFill>
            <a:blip r:embed="rId2"/>
            <a:stretch/>
          </p:blipFill>
          <p:spPr>
            <a:xfrm>
              <a:off x="3124080" y="2971800"/>
              <a:ext cx="188604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6"/>
            <p:cNvSpPr/>
            <p:nvPr/>
          </p:nvSpPr>
          <p:spPr>
            <a:xfrm>
              <a:off x="4080600" y="36270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7"/>
            <p:cNvSpPr/>
            <p:nvPr/>
          </p:nvSpPr>
          <p:spPr>
            <a:xfrm>
              <a:off x="3558240" y="36234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ther Parent Graph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 =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 = |x|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√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30  Use transformations for graphs to sketch a graph of f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5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6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1982880" y="2590920"/>
          <a:ext cx="1522440" cy="42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2880" y="2590920"/>
                    <a:ext cx="152244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5"/>
          <p:cNvGraphicFramePr/>
          <p:nvPr/>
        </p:nvGraphicFramePr>
        <p:xfrm>
          <a:off x="1981080" y="3657600"/>
          <a:ext cx="17020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657600"/>
                    <a:ext cx="1702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6"/>
          <p:cNvGraphicFramePr/>
          <p:nvPr/>
        </p:nvGraphicFramePr>
        <p:xfrm>
          <a:off x="1905120" y="4678200"/>
          <a:ext cx="1873080" cy="42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678200"/>
                    <a:ext cx="18730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rtex Form of a Quadratic Fun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tex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arabolic graph of f(x) = a(x – h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k has vertex (h,k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ph opens up when a &gt; 0, down when a &lt;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84 Identify f as being linear, quadratic, or neither.  If it is quadratic, identify the leading coefficient and evaluate f(-2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2  f(x) = 1 – 2x + 3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4  f(x) = (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1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6  f(x) = 1/5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85 Identify the vertex and the leading coefficient.  Then write the equation as f(x) = a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bx + 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18  f(x) = 5(x + 2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20  f(x) = ½(x + 3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nding the verte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tex Formu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vertex for the graph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f(x) = a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+ bx + c with a ≠ 0 is the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2971800" y="3009960"/>
          <a:ext cx="205740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009960"/>
                    <a:ext cx="20574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85  Use the vertex formula to determine the vertex of the graph of f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26 f(x) = 2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2x +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30 f(x) = -3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x –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pleting the Squa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y = 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+ 6x – 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85  Write the given equation in the form f(x) = (x – h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40  f(x) 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10x + 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50  f(x) = 6 + 5x – 10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9:17:22Z</dcterms:created>
  <dc:creator>Preferred Customer</dc:creator>
  <dc:description/>
  <dc:language>en-US</dc:language>
  <cp:lastModifiedBy>beery</cp:lastModifiedBy>
  <dcterms:modified xsi:type="dcterms:W3CDTF">2008-09-24T03:21:47Z</dcterms:modified>
  <cp:revision>16</cp:revision>
  <dc:subject/>
  <dc:title>3.1</dc:title>
</cp:coreProperties>
</file>